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465-B318-4B06-B3E0-664C2CA6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790-D5B7-4281-999C-FE55E2D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BCC-1B54-421A-BA97-BA444A4F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3AD-9923-4D56-B3A7-41C9B140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14A-9B2F-4859-AEA1-FCA7056D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5AA-86BE-483A-803F-E75C964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7A2-4393-46A4-B31A-943A8DEA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23C-9F18-4CE2-A7E6-A783ED8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427-F08F-4D4D-BFF4-D6AED43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8E3-6A45-454C-8ACA-C32E3E7C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FAC-60D6-4F12-9B81-5E038D4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1F3-90ED-4C68-B539-F59CB2E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1A6D-FBE0-4058-963C-6153A79B35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800" y="152388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depend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posure 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162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1976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7772400" cy="5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629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7772400" cy="81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777240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48720" y="5334120"/>
            <a:ext cx="68868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812000" y="3581280"/>
            <a:ext cx="7225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7772400" cy="68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6858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191120"/>
            <a:ext cx="75438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70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48:35Z</dcterms:modified>
  <cp:revision>215</cp:revision>
  <dc:subject/>
  <dc:title>Slide 1</dc:title>
</cp:coreProperties>
</file>